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D3EE-C253-4AD5-8671-2B30B9460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3D10-D366-448E-BC61-89707061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0313-B69A-428D-9D30-65994C74F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672C-934C-4C6D-9053-6D1D4809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6F46-1C40-4044-B000-F936A88C0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B0A-3CB7-48C6-879F-63056079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F0E1-19DB-4E4F-B9D3-DAE4018DF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4E1-4EFD-4750-9417-BF7798D4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8E74-D794-4411-B0AC-033DBA2CF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1E56-1C67-4FF7-8158-673F7BB7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5B64-FB13-4349-B97E-14A96196E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C65-B1C3-4945-9593-19391BB8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98CA-1DE6-48E3-BD14-D2582BC47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4902-9E5D-4C2D-A4B5-F07B18B7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B23B-985D-43ED-BAA5-B0A4C25F3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F245-8F3D-4BB2-BCF0-46B69EF9E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BEAC-8C4E-4FA2-B77D-119C3CED2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04D2-0EBC-46AD-9D70-8D10E5CEE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A3C5-30B8-4DE4-B77D-28E7E5969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F09-8FD4-4AA5-9486-C735C27BF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CC80-B176-4F55-BDB1-6EE11C95B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2D42-2653-48C3-96C6-F615BC5B2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1C6-9296-4037-B8C8-58E9F66A8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F89-892A-4A0F-8BF1-AF29DE9C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F76-82F1-47A5-ABB4-FF447AED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227-1E23-446B-911B-52BAC4DD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017-13D7-496A-BD13-E88D2CD3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C47-4FF1-4038-AC8F-5BF1F8A1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9CE-CD60-4881-AB5D-5FF8ED10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32D-480B-47CD-92E5-A23CB4E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562-CACF-48BD-95B9-BB608EF4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16B-8663-48A8-A557-AB3FF5D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CFD-204A-4596-B367-E33EBAA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6D6-6681-45B3-A085-34ADB74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330-0946-480D-B07C-353EADB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594-16C3-4F83-9871-CC8977595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s.timesunion.com/capitol/wp-content/uploads/2008/08/medicaid-budget-cuts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beta.laschoolboard.org/files/images/LAUSDLogo.gif&amp;imgrefurl=http://beta.laschoolboard.org/lausdlive&amp;usg=__O2kB7AT0QnY5Tx_lbS9qZZn66a4=&amp;h=838&amp;w=836&amp;sz=47&amp;hl=en&amp;start=1&amp;tbnid=CTAa645D6KR0PM:&amp;tbnh=144&amp;tbnw=144&amp;prev=/images?q=lausd&amp;gbv=2&amp;hl=en&amp;safe=active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amapm.com/html-images/LAUSD1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www.lastudentscount.org/images/LAUSDmap.jpg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www.wall.org/~larry/onion/prohibit.gif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www.carnegie.org/reporter/09/images/literacy1.jpg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kramtark.files.wordpress.com/2007/09/cimg3628.jpg&amp;imgrefurl=http://kramtark.wordpress.com/2007/09/06/psych-101/&amp;usg=__bKIKUtuVFo2azB54LWCvPu6Zgek=&amp;h=768&amp;w=1024&amp;sz=286&amp;hl=en&amp;start=2&amp;tbnid=2o1SdTrrXontmM:&amp;tbnh=113&amp;tbnw=150&amp;prev=/images?q=large+class+size&amp;gbv=2&amp;hl=en&amp;safe=active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tuhsc.edu/centers/aging/images/caringWEB.jpg&amp;imgrefurl=http://www.ttuhsc.edu/centers/aging/caregivers.aspx&amp;usg=__vRMpHozt16YDbuN6BFpsKT9M2bc=&amp;h=360&amp;w=540&amp;sz=39&amp;hl=en&amp;start=5&amp;tbnid=E3CXCM92sQD7DM:&amp;tbnh=88&amp;tbnw=132&amp;prev=/images?q=caring&amp;gbv=2&amp;hl=en&amp;safe=active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santiagotimes.cl/santiagotimes/images/stories/easygallery/45/1195588650_high%2520school%2520students.jpg&amp;imgrefurl=http://www.santiagotimes.cl/santiagotimes/index.php/component/option,com_easygallery/Itemid,46/act,categories/cid,45/&amp;usg=__Lged65vaDR2pSpHatNoAtG_QKZw=&amp;h=375&amp;w=500&amp;sz=107&amp;hl=en&amp;start=4&amp;tbnid=36BDb_Jisw7coM:&amp;tbnh=98&amp;tbnw=130&amp;prev=/images?q=high+school+students&amp;gbv=2&amp;hl=en&amp;safe=active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uardianpoolfence.com/Photos/removable-mesh-pool-fences.jpg&amp;imgrefurl=http://www.guardianpoolfence.com/removable-mesh-pool-fences.html&amp;usg=__P-5jhysNPDQVZYIi1tT-oC6rqy0=&amp;h=265&amp;w=400&amp;sz=35&amp;hl=en&amp;start=27&amp;tbnid=ADb4qyZWVAWLzM:&amp;tbnh=82&amp;tbnw=124&amp;prev=/images?q=fence+by+children&amp;start=20&amp;gbv=2&amp;ndsp=20&amp;hl=en&amp;safe=active&amp;sa=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ildingsurveyingsolutions.co.uk/data/rics/webimag/boundary_disputes.jpg&amp;imgrefurl=http://www.buildingsurveyingsolutions.co.uk/english/05-bound.htm&amp;usg=__Jx3Dj-zMdcMJMerGGnrGCLqJr3U=&amp;h=320&amp;w=430&amp;sz=7&amp;hl=en&amp;start=5&amp;tbnid=3cmkEHbQz3nBcM:&amp;tbnh=94&amp;tbnw=126&amp;prev=/images?q=boundary&amp;gbv=2&amp;hl=en&amp;safe=active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onewall.nist.gov/CONTENT/wall199c.jpg&amp;imgrefurl=http://stonewall.nist.gov/CONTENT/Location.htm&amp;usg=__-nf1AKPL6nbuQy2Oq-9v-8_MZdA=&amp;h=946&amp;w=766&amp;sz=184&amp;hl=en&amp;start=5&amp;tbnid=efo8HJYwwZkTTM:&amp;tbnh=148&amp;tbnw=120&amp;prev=/images?q=wall&amp;gbv=2&amp;hl=en&amp;safe=active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o.corbis.com/images/42-15207423.jpg?size=67&amp;uid=%257BD2B5CB1E-0C57-4CE3-8C1B-BA176D7BFD64%257D&amp;imgrefurl=http://pro.corbis.com/search/Enlargement.aspx?CID=isg&amp;mediauid=%257BD2B5CB1E-0C57-4CE3-8C1B-BA176D7BFD64%257D&amp;usg=__oyySA84uxm2Eg7Eh9R7EEUMTp2o=&amp;h=426&amp;w=640&amp;sz=133&amp;hl=en&amp;start=33&amp;tbnid=8Zj88HUJyXawBM:&amp;tbnh=91&amp;tbnw=137&amp;prev=/images?q=chain+link+fence+with+holes&amp;start=20&amp;gbv=2&amp;ndsp=20&amp;hl=en&amp;safe=active&amp;sa=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bp0.blogger.com/_AS1aErDzEdI/R0_e3bJ2WrI/AAAAAAAAA14/q8PxtB-AUo4/s1600-R/Bangladesh+2007+118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385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4396130000[1]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1219320" y="0"/>
            <a:ext cx="6705360" cy="708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MPj04014790000[1]"/>
          <p:cNvPicPr/>
          <p:nvPr/>
        </p:nvPicPr>
        <p:blipFill>
          <a:blip r:embed="rId2"/>
          <a:stretch/>
        </p:blipFill>
        <p:spPr>
          <a:xfrm>
            <a:off x="2514600" y="1295280"/>
            <a:ext cx="4038480" cy="2691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066680" y="4226040"/>
            <a:ext cx="73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Local District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28800" y="5522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Japanese Gothic"/>
              </a:rPr>
              <a:t>March 11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280" y="30492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21st Century Learn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eadership"/>
          <p:cNvPicPr/>
          <p:nvPr/>
        </p:nvPicPr>
        <p:blipFill>
          <a:blip r:embed="rId1"/>
          <a:stretch/>
        </p:blipFill>
        <p:spPr>
          <a:xfrm>
            <a:off x="1752480" y="3657600"/>
            <a:ext cx="323856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nonymous-leadership-5000373"/>
          <p:cNvPicPr/>
          <p:nvPr/>
        </p:nvPicPr>
        <p:blipFill>
          <a:blip r:embed="rId2"/>
          <a:stretch/>
        </p:blipFill>
        <p:spPr>
          <a:xfrm>
            <a:off x="3809880" y="304920"/>
            <a:ext cx="4551480" cy="32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Leadership-Pyramid"/>
          <p:cNvPicPr/>
          <p:nvPr/>
        </p:nvPicPr>
        <p:blipFill>
          <a:blip r:embed="rId3"/>
          <a:stretch/>
        </p:blipFill>
        <p:spPr>
          <a:xfrm>
            <a:off x="5638680" y="3352680"/>
            <a:ext cx="2619360" cy="336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jewsonfirst.org/images/obama8.jpg"/>
          <p:cNvPicPr/>
          <p:nvPr/>
        </p:nvPicPr>
        <p:blipFill>
          <a:blip r:embed="rId4"/>
          <a:stretch/>
        </p:blipFill>
        <p:spPr>
          <a:xfrm>
            <a:off x="457200" y="228600"/>
            <a:ext cx="2865600" cy="3565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838080" y="2971800"/>
            <a:ext cx="2819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s, we c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648320" y="2971800"/>
            <a:ext cx="3200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ssible Budget Cut Imp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352680" cy="217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LAUSD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29528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33526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05120" y="2666880"/>
            <a:ext cx="4038480" cy="28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038480" y="228600"/>
            <a:ext cx="4572000" cy="257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img3628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3105000"/>
            <a:ext cx="4403520" cy="330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952880" y="4191120"/>
            <a:ext cx="2362320" cy="1191240"/>
          </a:xfrm>
          <a:prstGeom prst="rect">
            <a:avLst/>
          </a:prstGeom>
          <a:solidFill>
            <a:srgbClr val="f5d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0: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62120" y="2971800"/>
            <a:ext cx="2590560" cy="1312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istant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429000" y="1447920"/>
            <a:ext cx="472428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ed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1905120" y="1600200"/>
            <a:ext cx="5486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arch 15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aring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990720"/>
            <a:ext cx="723924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1195588650_high%2520school%2520studen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389320"/>
            <a:ext cx="5181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removable-mesh-pool-fen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644480"/>
            <a:ext cx="65530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oundary_dispu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74920"/>
            <a:ext cx="60958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9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wall199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9144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42-152074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143000"/>
            <a:ext cx="69343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533520" y="228600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dget Process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981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533520" y="1295280"/>
            <a:ext cx="80769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ore categorical money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utside th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2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219320" y="1600200"/>
            <a:ext cx="693396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et AYP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1st Century Learners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[iStock_000004404460XSmall_Target.jpg]"/>
          <p:cNvPicPr/>
          <p:nvPr/>
        </p:nvPicPr>
        <p:blipFill>
          <a:blip r:embed="rId1"/>
          <a:stretch/>
        </p:blipFill>
        <p:spPr>
          <a:xfrm>
            <a:off x="380880" y="609480"/>
            <a:ext cx="845532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1066680" y="4191120"/>
            <a:ext cx="6782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uaranteed and viabl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1plc-515"/>
          <p:cNvPicPr/>
          <p:nvPr/>
        </p:nvPicPr>
        <p:blipFill>
          <a:blip r:embed="rId1"/>
          <a:stretch/>
        </p:blipFill>
        <p:spPr>
          <a:xfrm>
            <a:off x="152280" y="380880"/>
            <a:ext cx="8759880" cy="5834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838080" y="4343400"/>
            <a:ext cx="71629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fessional Learning Comm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http://clerccenter.gallaudet.edu/AcademicTeams/team6-7-8/images/discussing.JPG"/>
          <p:cNvPicPr/>
          <p:nvPr/>
        </p:nvPicPr>
        <p:blipFill>
          <a:blip r:embed="rId1"/>
          <a:stretch/>
        </p:blipFill>
        <p:spPr>
          <a:xfrm>
            <a:off x="1828800" y="8380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nclr.org/Image/oral/two%20girls%20talking.jpg"/>
          <p:cNvPicPr/>
          <p:nvPr/>
        </p:nvPicPr>
        <p:blipFill>
          <a:blip r:embed="rId2"/>
          <a:stretch/>
        </p:blipFill>
        <p:spPr>
          <a:xfrm>
            <a:off x="4495680" y="25146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bn0.google.com/images?q=tbn:2VvtIPTki1VKyM:http://bp0.blogger.com/_AS1aErDzEdI/R0_e3bJ2WrI/AAAAAAAAA14/q8PxtB-AUo4/s1600-R/Bangladesh%2B2007%2B1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58128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5486400" y="1981080"/>
            <a:ext cx="2438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su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572000" y="403848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g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erenc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09480" y="2209680"/>
            <a:ext cx="2210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cu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743200" y="342900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438280" y="304920"/>
            <a:ext cx="46483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hentic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46:11Z</dcterms:created>
  <dc:creator>martin.galindo</dc:creator>
  <dc:description/>
  <dc:language>en-US</dc:language>
  <cp:lastModifiedBy>Janice Stearns</cp:lastModifiedBy>
  <dcterms:modified xsi:type="dcterms:W3CDTF">2009-03-11T17:02:34Z</dcterms:modified>
  <cp:revision>14</cp:revision>
  <dc:subject/>
  <dc:title>Slide 1</dc:title>
</cp:coreProperties>
</file>